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69-945A-4847-AA1E-CA1923D8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6F4-6A0D-4A4E-A9DB-0166F03A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19A-6887-4019-B69A-4401A7FA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853-366C-4596-A0CA-C038B26F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ABE-C825-4ADC-BDAC-B220008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D40-3DCC-40B2-B1D3-6B9D8BC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02B-CEF0-4E3C-B0C2-FF88AC0D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044-D541-4463-8EA6-F39EFE7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A0B-D8C1-48C9-A08C-83D432F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9B-EAFE-4605-8F2A-998214B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012-7A06-4D80-9DEF-A622867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17A-2250-46ED-AA08-D4AAB19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8AC4-99C5-461B-A70E-25013B5B21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typ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typical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petit déjeu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527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116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16970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1569960" y="4168800"/>
            <a:ext cx="181296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5361120" y="3938760"/>
            <a:ext cx="261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brosse les 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134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quitte la maison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3961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le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ais à l’école/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ends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176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84360" y="195408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087640" cy="19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953080" cy="193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44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rrive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477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trav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105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éje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248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év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42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ntre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09840" y="1600200"/>
            <a:ext cx="252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1324080" y="1600200"/>
            <a:ext cx="23050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761080" y="1790640"/>
            <a:ext cx="18129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1565280" y="4130640"/>
            <a:ext cx="182232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6058080" y="3938760"/>
            <a:ext cx="1218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goû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goû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08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fais m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81240" y="1600200"/>
            <a:ext cx="478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dîn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mon dî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246400" y="1743120"/>
            <a:ext cx="4651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garde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265480" y="2416320"/>
            <a:ext cx="4613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589040" y="2062080"/>
            <a:ext cx="17748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5513400" y="1600200"/>
            <a:ext cx="230832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1276200" y="3938760"/>
            <a:ext cx="24004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4923000" y="393876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dés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4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8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571760" y="1649520"/>
            <a:ext cx="59990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279520" y="1600200"/>
            <a:ext cx="45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84720" cy="193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110808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5559480" y="3938760"/>
            <a:ext cx="22143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4"/>
          <a:stretch/>
        </p:blipFill>
        <p:spPr>
          <a:xfrm>
            <a:off x="5364000" y="1557360"/>
            <a:ext cx="2054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réve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un b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if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petit déjeu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brosse les 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ais à l’éc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rrive au collè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 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éje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ntre à la ma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goû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fais mes devo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î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garde la té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és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94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0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4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8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9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0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1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2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3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4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5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6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7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8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9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0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1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2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3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4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5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6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7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8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67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8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9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0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1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2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3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4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5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6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7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8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9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0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1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2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3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4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5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6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7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8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9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0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 rév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m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v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wake up (sing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wake up (in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wake up (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wake up (pl. or 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ake up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ake up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une douch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e do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0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31053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5186520" y="1600200"/>
            <a:ext cx="2962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1584360" y="4141800"/>
            <a:ext cx="1782720" cy="177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5813280" y="4119480"/>
            <a:ext cx="17082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un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98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28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i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4753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6:57:48Z</dcterms:created>
  <dc:creator>Cecile Gennevieve</dc:creator>
  <dc:description/>
  <dc:language>en-US</dc:language>
  <cp:lastModifiedBy>Nicolas</cp:lastModifiedBy>
  <dcterms:modified xsi:type="dcterms:W3CDTF">2010-03-09T23:53:13Z</dcterms:modified>
  <cp:revision>7</cp:revision>
  <dc:subject/>
  <dc:title>Une journée typique</dc:title>
</cp:coreProperties>
</file>